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7.jpeg" ContentType="image/jpe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177-1FBF-441D-8D7E-5C2B1078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A566-0463-480A-B29B-B4B23755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AB11-4E97-4B1E-8816-28E37926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319-C223-42B1-8F9E-3B54B4E5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6B99D-151D-4ADE-9AD4-C3CA70F6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D32B-8B93-4391-B38A-CF2AF115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2550-D18E-4E08-AC3A-3376C2BA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BFEA-094C-42B4-8251-3E8F0B0C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CB3D-3B7D-4216-9DF3-AADBE089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3EF0-65C2-4608-96E7-C18D63DE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48EF-E538-4E04-A352-AB81F55E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D0E-4C45-47D8-BF23-2630C07D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CB8C-BDA8-4D60-A191-EB382CC9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2120-9112-4E09-9121-3BA1941A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81FF-BB9F-4715-AEC7-F48D6820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0D8F-2436-4EAD-90C9-5AE17F5D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A765-80C6-41C7-9D09-923AB76F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46A6C-FD1B-4206-91E7-479E26D3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4A35C-9258-4141-B305-B2EDC228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CE301-7F27-4F23-B378-79ED4DCC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4257F-60A7-4B64-AA33-4E4B6F64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F7B9-1C6E-4A25-A436-CEBF8557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2B0-2313-4864-AC47-6023F4F4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2CD4-0955-4AFF-867D-CA54B8E9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8ABC-13B3-498F-A50D-B18E5497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8473-86C8-46F1-8A9B-62B3B510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5FAD-698D-4765-94D9-C09EE38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E19A-6C67-4EC7-B001-8D0C8773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8918A-6E05-41F4-80DD-4E7CFB84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250D3-5E0D-445A-8475-38D2584E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539-8A7B-4ACA-A31A-F77A3092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CAA-6E3C-470F-B56C-0E47D680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6A5-FF39-4BC2-8052-05FDBFC5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61B-26F9-4097-82E3-BB97B349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1FE-041C-4760-9FD8-E61A040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B27-BCA6-49C8-83D9-FDF759E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9D87-8B34-4A23-A454-5973C6A391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41AE-8E3B-4B62-A7F1-27277BC79C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E952-95FB-4472-A184-FF6B47225A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638680" y="41148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  <a:ea typeface="仿宋_GB2312"/>
              </a:rPr>
              <a:t>郭沫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952880" y="1600200"/>
            <a:ext cx="4191120" cy="13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雷电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5" name=""/>
          <p:cNvSpPr/>
          <p:nvPr/>
        </p:nvSpPr>
        <p:spPr>
          <a:xfrm>
            <a:off x="2206440" y="55278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南流初级中学   刘兰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152280"/>
            <a:ext cx="167652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研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1143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章全部是屈原的内心独白，他赞美了什么，指斥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743200"/>
            <a:ext cx="7696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）对风雷电的呼唤和歌颂，对光明的礼赞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     和向往（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1-8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）借指斥神鬼偶像来愤怒诅咒昏庸腐朽的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     当权者（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9-13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152280"/>
            <a:ext cx="167652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研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中写到了哪些景象？结合写作背景，想想这里用到了什么表现手法？有何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25909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66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华文中宋"/>
                <a:ea typeface="华文中宋"/>
              </a:rPr>
              <a:t>写到了风雷电，洞庭湖、东海、长江，有形的长剑、无形的长剑，没有阴谋，没有污秽、没有自私自利的没有人的小岛，“土偶木梗”等景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6000" y="4419720"/>
            <a:ext cx="4648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象征的手法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med">
    <p:diamond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09680" y="304920"/>
            <a:ext cx="4648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象征的手法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52280"/>
            <a:ext cx="167652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研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600200"/>
            <a:ext cx="8610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是文学创作中的一种重要的表现方法，它是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根据事物之间的某种联系，借助某一具体事物的形象（象征体），以表现某种抽象的概念、思想和感情（被象征的本体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3124080"/>
            <a:ext cx="48765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A </a:t>
            </a: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风雷电</a:t>
            </a:r>
            <a:br>
              <a:rPr sz="2600"/>
            </a:b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B </a:t>
            </a: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洞庭湖、东海、长江</a:t>
            </a:r>
            <a:br>
              <a:rPr sz="2600"/>
            </a:b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C </a:t>
            </a: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有形的长剑</a:t>
            </a:r>
            <a:br>
              <a:rPr sz="2600"/>
            </a:b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D </a:t>
            </a: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无形的长剑</a:t>
            </a:r>
            <a:br>
              <a:rPr sz="2600"/>
            </a:b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E </a:t>
            </a: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没有阴谋，没有污秽、没有自</a:t>
            </a:r>
            <a:br>
              <a:rPr sz="2600"/>
            </a:b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   私自利的没有人的小岛</a:t>
            </a:r>
            <a:br>
              <a:rPr sz="2600"/>
            </a:b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F “</a:t>
            </a:r>
            <a:r>
              <a:rPr b="1" lang="zh-CN" sz="2600" spc="-1" strike="noStrike">
                <a:solidFill>
                  <a:srgbClr val="000099"/>
                </a:solidFill>
                <a:latin typeface="华文新魏"/>
                <a:ea typeface="华文新魏"/>
              </a:rPr>
              <a:t>土偶木梗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3124080"/>
            <a:ext cx="5410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征变革现实的伟大力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3505320"/>
            <a:ext cx="335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征人民群众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57600" y="3886200"/>
            <a:ext cx="472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屈原被囚禁前的佩剑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480060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对社会现实极端憎恶而企求寄托灵魂的一方净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08120" y="3389400"/>
            <a:ext cx="10666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44920" y="3770280"/>
            <a:ext cx="10666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75000" y="4191120"/>
            <a:ext cx="10666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4343400"/>
            <a:ext cx="4648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形的长剑指坚定的信念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4572000"/>
            <a:ext cx="10670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5334120"/>
            <a:ext cx="106668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5562720"/>
            <a:ext cx="5791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德无能，欺民惑众的官僚统治集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09680" y="5791320"/>
            <a:ext cx="106704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617220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黑体"/>
                <a:ea typeface="黑体"/>
              </a:rPr>
              <a:t>作用</a:t>
            </a:r>
            <a:r>
              <a:rPr b="1" lang="zh-CN" sz="3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委婉曲折含蓄，化“抽象”为“具体”，形象可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914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雷电颂》独白激情澎湃，气象雄浑，作者是如何做到这一点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152280"/>
            <a:ext cx="167652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研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78800" y="205740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拟人兼呼告</a:t>
            </a:r>
            <a:r>
              <a:rPr b="1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——爱憎表达最直接有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5812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排比和反复</a:t>
            </a:r>
            <a:r>
              <a:rPr b="1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——句式整齐，感情表达更强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50292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华文新魏"/>
                <a:ea typeface="华文新魏"/>
              </a:rPr>
              <a:t>多用短句</a:t>
            </a:r>
            <a:r>
              <a:rPr b="1" lang="zh-CN" sz="2800" spc="-1" strike="noStrike">
                <a:solidFill>
                  <a:srgbClr val="003300"/>
                </a:solidFill>
                <a:latin typeface="华文新魏"/>
                <a:ea typeface="华文新魏"/>
              </a:rPr>
              <a:t>——语气急促，情感激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590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热切地呼告和歌颂风雷电，愤怒地斥责众神，直接有力地表达了爱憎的感情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增强语句的气势和表达效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670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短句的使用，使得文章语势急促，能够很好地把人物内心激烈的情感表达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114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增强了整个独白的抒情效果，有力地表达了爱憎之情，又具有诗的形式美，回环往复，荡气回肠，琅琅上口，铿锵有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152280"/>
            <a:ext cx="167652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感悟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0666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抒情主人公通过呼唤风、雷、电表达了一种怎样的思想感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14400" y="2514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ff66"/>
                </a:solidFill>
                <a:latin typeface="方正姚体"/>
                <a:ea typeface="方正姚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对风雷电的呼唤与歌颂，表现了诗人对黑暗世界的强烈愤懑和摧毁黑暗的热望，也表明了诗人对光明未来的热烈追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28195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爱国爱民，忠贞不屈，有着浩然正气和英勇无畏的斗争精神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98080" y="14241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你认为屈原是一个怎样的人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52280"/>
            <a:ext cx="167652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感悟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248520" y="2514600"/>
            <a:ext cx="27144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2057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风！你咆哮吧！咆哮吧！尽力地咆哮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35053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这几句是对风的呼喊，流露出屈原对风的急切的渴盼，因为风是改变黑暗的变革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152280"/>
            <a:ext cx="167652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品味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21720" y="76212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讨论下列三段话分别表达了屈原怎样的内心情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1430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火！你在天边，你在眼前，你在我的四面，我知道你就是宇宙的生命，你就是我的生命，你就是我呀！我这熊熊地燃烧着的生命，我这快要使我全身炸裂的怒火，难道就不能迸射出光明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96252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这几句是屈原对光明的狂热的呼喊，表达了诗人对光明未来的热烈向往与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152280"/>
            <a:ext cx="167652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品味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762120" y="10666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把你这东皇太一烧毁了吧！把你这云中君烧毁了吧！你们这些土偶木梗，你们高坐在神位上有什么德能？你们只是产生黑暗的父亲和母亲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3733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这几句深刻地指出了产生社会黑暗的根源。表现了作者鞭挞一切污秽、横扫一切邪恶的顽强战斗精神，表现了他与黑暗势力决斗到底的浩然正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52280"/>
            <a:ext cx="167652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品味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03280" y="184464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《雷电颂》节选自话剧《屈原》第五幕第二场，这段著名的长篇抒情独白用风雷电与黑暗的撞击，抒发了屈原忧愤深广的思想感情，充满对黑暗的诅咒，对光明的礼赞和渴望，充分表现了屈原在失败之后依然毫不妥协的反抗精神和战斗意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52280"/>
            <a:ext cx="167652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22760" y="115920"/>
            <a:ext cx="4486320" cy="6553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07800" y="144360"/>
            <a:ext cx="5200920" cy="6524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68360" y="644400"/>
            <a:ext cx="4838760" cy="25322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屈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——名平，字原。我国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伟大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爱国主义诗人，战国时楚国人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用“楚辞”的形式写了我国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第一首政治抒情诗《离骚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是“楚辞”体的创造者和代表作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屈原做过三闾大夫，主张举贤任能，力劝楚怀王联齐抗秦，后来遭奸人陷害，罢官放逐，但仍心系国家。楚国被攻后，自投汨罗江而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后世所见屈原作品，都出自西汉刘向辑集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《楚辞》，其中包括《离骚》、《九歌》、《九章》、《天问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260280"/>
            <a:ext cx="87138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指出下列各句所用到的修辞方法。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电！你这宇宙中最犀利的剑呀！（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比喻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你劈吧，劈吧，劈吧！（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反复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鼓动吧，风！咆哮吧，雷！闪耀吧，电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排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我这快要使我全身炸裂的怒火，难道就不能迸射出光明了吗？（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夸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）（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反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“风”“雷”“电”象征了（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变革现实的伟大力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1680" y="914400"/>
            <a:ext cx="792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000" y="1484280"/>
            <a:ext cx="792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2708280"/>
            <a:ext cx="792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59280" y="3933720"/>
            <a:ext cx="792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3933720"/>
            <a:ext cx="792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86400" y="4343400"/>
            <a:ext cx="28954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4952880"/>
            <a:ext cx="838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22860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《雷电颂》选自            的历史剧《          》。这部历史剧写于             年。它借古         ，揭露了国民党统治下的黑暗现实，抨击了             反动统治，传达了人民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选的《雷电颂》是第五幕第二场屈原的一段独白。这篇独白，一是对        、      、        的期待与歌颂，二是对           的渴望与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根据语境解释下列句子中划线词语的深层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“啊！电！你这宇宙中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最犀利的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”但是你，你能拔去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有形的长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你不能拔去我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无形的长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呀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2286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郭沫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152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屈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685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9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609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讽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1143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蒋介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1523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反对国民党反动独裁统治的呼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2514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25146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光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315200" y="42670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闪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5410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指屈原被囚禁前的佩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267080" y="5867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指追求光明的坚定信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花边2"/>
          <p:cNvPicPr/>
          <p:nvPr/>
        </p:nvPicPr>
        <p:blipFill>
          <a:blip r:embed="rId2"/>
          <a:stretch/>
        </p:blipFill>
        <p:spPr>
          <a:xfrm>
            <a:off x="4140360" y="836640"/>
            <a:ext cx="4825800" cy="38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花边1"/>
          <p:cNvPicPr/>
          <p:nvPr/>
        </p:nvPicPr>
        <p:blipFill>
          <a:blip r:embed="rId3"/>
          <a:stretch/>
        </p:blipFill>
        <p:spPr>
          <a:xfrm rot="454800">
            <a:off x="0" y="1844280"/>
            <a:ext cx="5041800" cy="40417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1143000" y="99072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路漫漫其修远兮，吾将上下而求索。</a:t>
            </a:r>
            <a:r>
              <a:rPr b="0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876920" y="30481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屈原《离骚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548496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意思是说：在追寻真理（真知）方面，前方的道路还很漫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但我将百折不挠，不遗余力地（上天下地）去追求和探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2808360" cy="1440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2916360" y="47952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战国时代，称雄的秦、楚、齐、燕、赵、韩、魏七国，争城夺地，互相杀伐，连年不断混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920" y="1484280"/>
            <a:ext cx="2808360" cy="14400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2916360" y="19926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那时，楚国的大诗人屈原，正当青年，为楚怀王的左徒官。他见百姓受到战争灾难，十分痛心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4920" y="2924280"/>
            <a:ext cx="2808360" cy="1439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2916360" y="3579840"/>
            <a:ext cx="52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屈原立志报国为民，劝怀王任用贤能，爱护百姓，很得怀王的信任。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34920" y="4365720"/>
            <a:ext cx="2808360" cy="129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8" name=""/>
          <p:cNvSpPr/>
          <p:nvPr/>
        </p:nvSpPr>
        <p:spPr>
          <a:xfrm>
            <a:off x="2989440" y="462276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后来他遭到排挤，种种诬陷接踵而至，楚王撤销了屈原的官职，将之流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4920" y="5661000"/>
            <a:ext cx="2819520" cy="11239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040200" y="602784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、当时秦国势力大，秦攻击楚国。屈原主张联齐抗秦，遭到楚王拒绝，几次被囚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0" y="27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111480" y="66240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楚国国势一天不如一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失掉了对抗秦兵的力量。秦国占领了楚国大部分土地，楚要灭亡。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满腹的忧愁愤恨，使他写成了诗篇《离骚》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2160" y="61920"/>
            <a:ext cx="2895480" cy="156672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4032360" cy="2519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08000" y="2808720"/>
            <a:ext cx="45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、楚国要亡了！他来到了汨罗江边。他在清澈的江水里看见了自己的满头白发，心里像波浪一样翻腾起来。这里的土地没被秦兵践踏过，是干净的。他解下衣服，包着江边的石头，用带子紧紧缚在自己身上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932360" y="4508640"/>
            <a:ext cx="4032360" cy="22334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108000" y="5296320"/>
            <a:ext cx="46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、屈原奋力向江心一跳。爱国诗人带了楚国的干净石块，很快沉了下去。相传这天是五月五日。 百姓相信爱国诗人是不会死的，每年五月五日，他们摇着龙船，到处寻觅。屈原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的爱国精神，已经在中国人民心中生了根。</a:t>
            </a:r>
            <a:r>
              <a:rPr b="1" lang="zh-CN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0" y="2700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04920" y="212760"/>
            <a:ext cx="282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郭沫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52920" y="260280"/>
            <a:ext cx="516708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隶书"/>
              </a:rPr>
              <a:t>郭沫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89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～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978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隶书"/>
              </a:rPr>
              <a:t>：原名郭开贞，字鼎堂，号尚武。笔名沫若，作家、诗人、历史学家、剧作家、考古学家、古文字学家、社会活动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隶书"/>
              </a:rPr>
              <a:t>代表作：诗集《女神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历史剧 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隶书"/>
              </a:rPr>
              <a:t>《棠棣之花》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隶书"/>
              </a:rPr>
              <a:t>dì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隶书"/>
              </a:rPr>
              <a:t>《屈原》《虎符》《高渐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隶书"/>
              </a:rPr>
              <a:t>《孔雀胆》《南冠草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27080" y="1413000"/>
            <a:ext cx="3436920" cy="5111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581280" y="4724280"/>
            <a:ext cx="52578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黑暗反动势力坚持进行顽强、不妥协的斗争是贯穿这些剧本的一个共同的基本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5076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5280" y="1892160"/>
            <a:ext cx="842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《雷电颂》选自历史剧《屈原》。写于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942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月，这时正值抗日战争的相持阶段，也是国民党反动派统治最黑暗的时候。蒋介石集团消极抗日，并发动“皖南事变”，屠杀爱国抗战的军民，掀起反共的高潮。面对这样的政治现实，郭沫若创作《屈原》，以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鞭挞国民党反动派的黑暗统治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。借历史上的屈原的悲剧，展示了现实世界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光明与黑暗，正义与邪恶，爱国与卖国的尖锐、激烈的斗争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，起了“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借古讽今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”的作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47640" y="115920"/>
            <a:ext cx="60501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3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写作背景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剧情简介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全剧分为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“橘颂”“受诬”“招魂”“被囚”“雷电颂”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五幕。课文节选的第五幕的第二场，是全剧的高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5050"/>
                </a:solidFill>
                <a:latin typeface="Arial"/>
              </a:rPr>
              <a:t>《屈原》在当年国民党统治的中心──重庆上演，产生过巨大的影响。尤其是“雷电颂”一幕中的独白，激起过许多爱国者的共鸣。每次演出都被观众爆发出的雷鸣般的掌声所淹没。这个剧最后终于被国民党当局禁演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33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中宋"/>
                <a:ea typeface="华文中宋"/>
              </a:rPr>
              <a:t>字的读音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睥睨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pì nì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波澜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lán  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发泄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xiè 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鞺鞺鞳鞈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tāng tà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污秽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huì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稽首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qǐ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迸射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bèng  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罪孽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niè  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脚镣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liào 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咆哮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páo xiào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眩目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xuàn 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伫立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zhù 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木梗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gěng 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驰骋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chí chěng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虐待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nüè  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雷霆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tíng  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徘徊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pái huái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忏悔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</a:rPr>
              <a:t>ch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</a:rPr>
              <a:t>à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</a:rPr>
              <a:t>n</a:t>
            </a:r>
            <a:r>
              <a:rPr b="1" lang="zh-CN" sz="2700" spc="-1" strike="noStrike">
                <a:solidFill>
                  <a:srgbClr val="ff0000"/>
                </a:solidFill>
                <a:latin typeface="华文中宋"/>
              </a:rPr>
              <a:t>  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  <a:ea typeface="华文中宋"/>
              </a:rPr>
              <a:t>郢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</a:rPr>
              <a:t>y</a:t>
            </a:r>
            <a:r>
              <a:rPr b="1" lang="zh-CN" sz="2700" spc="-1" strike="noStrike">
                <a:solidFill>
                  <a:srgbClr val="0000ff"/>
                </a:solidFill>
                <a:latin typeface="Times New Roman"/>
              </a:rPr>
              <a:t>ǐ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</a:rPr>
              <a:t>ng </a:t>
            </a:r>
            <a:r>
              <a:rPr b="1" lang="zh-CN" sz="27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3276720"/>
            <a:ext cx="8610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睥睨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眼睛斜着看，形容高傲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雷霆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雷暴；霹雳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比喻威力或怒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徘徊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在一个地方来回地走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比喻犹疑不决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比喻事物在某个范围内浮动、起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咆哮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容水流的奔腾轰鸣，也形容人的暴怒喊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拖泥带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喻说话、写文章不简洁或做事不干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152280"/>
            <a:ext cx="1676520" cy="520560"/>
          </a:xfrm>
          <a:prstGeom prst="rect">
            <a:avLst/>
          </a:prstGeom>
          <a:solidFill>
            <a:srgbClr val="ff9900">
              <a:alpha val="50000"/>
            </a:srgbClr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研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9907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自由朗读课文，思考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828800"/>
            <a:ext cx="792468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你读过文章后的第一感受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文章全部是屈原的内心独白，他赞美了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么，指斥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文中写到了哪些景象？结合写作背景，想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想这里用到了什么表现手法？有何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 《雷电颂》独白激情澎湃，气象雄浑，作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者是如何做到这一点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1523880" y="2438280"/>
            <a:ext cx="5472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楷体_GB2312"/>
              </a:rPr>
              <a:t>激情澎湃，气势雄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 </dc:description>
  <cp:keywords/>
  <dc:language>en-US</dc:language>
  <cp:lastModifiedBy>MC SYSTEM</cp:lastModifiedBy>
  <dcterms:modified xsi:type="dcterms:W3CDTF">2013-03-20T01:33:00Z</dcterms:modified>
  <cp:revision>6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